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960-61C1-4EE5-AF2A-9B1CD04D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3F4-5714-4816-9B2C-E8F06D0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6A9-4D21-4662-A345-FA99B9EA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AA0-6B61-4F21-B429-56E64022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338-8D38-4C33-B488-B21972A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B8B-8C26-46E9-ACFF-E57DB1EE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481-496D-4FF3-9E4A-3B73E666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97D-416F-4CA9-AB2E-8458D41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E8F-A684-4C66-9C9D-CE83924C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CB2-E006-49BD-BA7E-1D55073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5E6-E03A-493D-8855-4F2B0AB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491-AA1F-4EBE-83FA-45C610C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4535-24C4-4521-9277-1852C41C8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eek Of Adven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484440" cy="347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5181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Mo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explored the New Jersey sh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4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ue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mountain climbing had me huffing for m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67120" y="2666880"/>
            <a:ext cx="366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Wedne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safari arrived home real 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65680" y="2570040"/>
            <a:ext cx="1411200" cy="171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798640"/>
            <a:ext cx="48006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hur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deep sea fishing put nothing on the p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5892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Fri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e’ll find a cave we can sc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2738520"/>
            <a:ext cx="4641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atur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ater skiing is definitely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56236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f we don’t swim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u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, I’ll surely p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7:48:59Z</dcterms:created>
  <dc:creator>Thomas J. Palumbo</dc:creator>
  <dc:description/>
  <dc:language>en-US</dc:language>
  <cp:lastModifiedBy>Tom Palumbo</cp:lastModifiedBy>
  <dcterms:modified xsi:type="dcterms:W3CDTF">2009-03-19T12:14:02Z</dcterms:modified>
  <cp:revision>14</cp:revision>
  <dc:subject/>
  <dc:title>A Week Of Adventures</dc:title>
</cp:coreProperties>
</file>